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CB9-97B1-4815-A7D3-71836863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F9D-DA0A-4A0D-86AE-62513FA1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6A7-DF15-4C14-93E6-C0AB1D37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8F6-8EB9-42E0-8340-E9997A62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3FC-1202-49F9-95BF-089B6E88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0AB-A031-4778-A05B-3F888FE9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331-542D-496A-9B56-897B97BC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790-059E-48B4-9622-B10978D5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37C-8642-4D05-8EEA-6BB4AA44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68A-07BB-49B2-8AE4-8D6B7174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571-6B9E-4583-90F9-65D8A8C5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AFF-5AC4-4CD7-A289-112453FD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539-737F-4314-AD5F-07FDCD1FF9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540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Vzdělávací program pro  inspektory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úředník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aha 26. 6.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gr. Jana Marie Land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Inspektoři ÚP – vyško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a pro úspěšné absolvování vzdělávacího programu – nepodkročitelné minim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eore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vzdělávacích dnů, dle vlastního výbě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aktické vzdělá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xe v plném rozsah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ložení a obhajoba aktualizovaného portfo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Vedoucí referátů specializovaných kontrol, kteří nevykonávají inspekční činn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a pro úspěšné absolvování vzdělávacího programu – nepodkročitelné minim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eore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modul teoretického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modul teoretického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 modul teoretického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aktické vzdělá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inspekce v rozsahu 1 – 2 d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5406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Zakončení vzdělává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ání bude zakončeno obhajobou portfolia. Portfolio bude obsahovat důkazy o profesních  kompetencích učícího se inspektora, které bude shromažďovat v průběhu vzdělá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25406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299125"/>
          <p:cNvPicPr/>
          <p:nvPr/>
        </p:nvPicPr>
        <p:blipFill>
          <a:blip r:embed="rId3"/>
          <a:stretch/>
        </p:blipFill>
        <p:spPr>
          <a:xfrm>
            <a:off x="6948360" y="3573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Dot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na.landova@uradprace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5406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j0315598"/>
          <p:cNvPicPr/>
          <p:nvPr/>
        </p:nvPicPr>
        <p:blipFill>
          <a:blip r:embed="rId3"/>
          <a:stretch/>
        </p:blipFill>
        <p:spPr>
          <a:xfrm>
            <a:off x="4643280" y="1916280"/>
            <a:ext cx="2397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1.ledna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vedení inspekcí sociálních služeb pod Úřady prác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 počtu 45 inspektorů krajských úřadů přešlo 10 inspektorů na Úřady práce Č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1368360" cy="24624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2627280" y="4235400"/>
            <a:ext cx="1873440" cy="706320"/>
          </a:xfrm>
          <a:prstGeom prst="triangle">
            <a:avLst>
              <a:gd name="adj" fmla="val 5072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6084720" y="4365720"/>
            <a:ext cx="187344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816360" y="4265640"/>
            <a:ext cx="21600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7451640" y="4319640"/>
            <a:ext cx="2160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Zástupný symbol pro obsah 5" descr=""/>
          <p:cNvPicPr/>
          <p:nvPr/>
        </p:nvPicPr>
        <p:blipFill>
          <a:blip r:embed="rId3"/>
          <a:stretch/>
        </p:blipFill>
        <p:spPr>
          <a:xfrm>
            <a:off x="6813720" y="5084640"/>
            <a:ext cx="844560" cy="8636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3"/>
          <p:cNvSpPr/>
          <p:nvPr/>
        </p:nvSpPr>
        <p:spPr>
          <a:xfrm>
            <a:off x="4859280" y="5084640"/>
            <a:ext cx="1008000" cy="505080"/>
          </a:xfrm>
          <a:prstGeom prst="rightArrow">
            <a:avLst>
              <a:gd name="adj1" fmla="val 50000"/>
              <a:gd name="adj2" fmla="val 49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aoblený obdélník 1"/>
          <p:cNvSpPr/>
          <p:nvPr/>
        </p:nvSpPr>
        <p:spPr>
          <a:xfrm>
            <a:off x="-1549440" y="-117936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řejná zakázk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ovace systému kvality sociál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realizována v rámci stejnojmenného individuálního projektu MPSV financovaného z prostředků ESF prostřednictvím Operačního programu Lidské zdroje a zaměstnanost a státního rozpočtu ČR. Jedním z cíle projektu je vzdělávání zejména pro inspektory sociálních služ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m řešitelem je INSTAND, o. s., Institut pro podporu vzdělávání a rozvoj kvality ve veřejných službá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Vzdělávání – dův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ktualizace právních předpi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jetí kvality v sociálních služb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dnotná aplikace inspekčního proc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měna informací mezi všemi inspek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j0234108"/>
          <p:cNvPicPr/>
          <p:nvPr/>
        </p:nvPicPr>
        <p:blipFill>
          <a:blip r:embed="rId3"/>
          <a:stretch/>
        </p:blipFill>
        <p:spPr>
          <a:xfrm>
            <a:off x="5508720" y="3933720"/>
            <a:ext cx="3209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2540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254061"/>
                </a:solidFill>
                <a:latin typeface="Arial"/>
              </a:rPr>
              <a:t>Východisko vzdělávacího program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ací program pro inspektory vychází z požadavků zákona o sociálních službách a prováděcích předpisů a současně reflektuje probíhající proces změn, např. výstupy dalších cílů projektu Inovace systému kvality sociálních služeb,  standardy kvality a inspekce sociálně právní ochrany dě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Cíl vzdělávacího program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em vzdělávacího programu pro inspektory úředníky je připravit účastníky vzdělávání tak, a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jednocení pojetí kvality v sociálních službá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li a uměli aplikovat inspekční 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li pojetí standardů kvality sociálních služeb a uměli jejich oblasti aplikovat na jednotlivé druhy sociální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li principy sociálního začleň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54061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V průběhu teoretické a praktické části vzdělávání je kladen důraz n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chopení a provázanost jednotlivých standardů kvality sociální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tiku práce insp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y ve zjišťování důkazů o úrovni kvality sociálních služeb ve vztahu k různým druhům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práva uživatelů a sociální začleň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Rozsah vzdělávání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ý rozsah vzdělávání je 150 hodin. Vzdělávací program obsahuje teoretickou a praktickou část. Časová dotace je 110 hodin teoretické výuky a 40 hodin praktické výuky. Rozvržení vzdělávacího programu je do 11 měsíců, aby měli učící se inspektoři dostatečný časový prostor pro průběžné uplatňování získaných poznatků a zkušeností ve své prax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ací program je primárně určen pro zaměstnance krajských poboček Úřadu práce ČR, kteří vykonávají inspekce poskytování sociálních služeb, dále inspektory, a pro vedoucí oddělení specializovaných kontrol, kteří též vykonávají inspe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5406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Praha, 26.6.2013 – vzdělávání</a:t>
            </a:r>
            <a:r>
              <a:rPr b="1" lang="cs-CZ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Verdana"/>
              </a:rPr>
              <a:t>inspe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 pro úspěšné absolvování vzdělávacího programu byly nastaveny s ohledem na  dosavadní vzdělávání inspektorů následujícím způsob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Inspektoři ÚP – no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zdělávací progra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 plném rozsahu 150 hodi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acování a obhajoba portfol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mínky úspěšného absolv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účast v teoretické výuce vyšší než 80%, v praktické výuce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5406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Jamrichova</cp:lastModifiedBy>
  <dcterms:modified xsi:type="dcterms:W3CDTF">2013-06-26T07:33:56Z</dcterms:modified>
  <cp:revision>98</cp:revision>
  <dc:subject/>
  <dc:title>Snímek 1</dc:title>
</cp:coreProperties>
</file>